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CE4C-4DF3-4D25-A66D-2255CD4C8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53CF-A8B8-42BD-A82A-D85E7B89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1406-3ECE-40C0-B269-834CBA7AE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C051-C94A-4F34-B806-3E7E1EF5F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62E4-9222-441E-9004-BEF8B0B0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C993-0D1B-48C2-8606-725B6144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ACAC-8B41-47E2-9F00-6FBD2395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FFF2-91A3-424B-8C84-7F8F1F52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CB69-6E54-4951-BE61-DD4E8512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E8CF-F76D-48E3-861F-72296B28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DBEF-62DA-43E6-B9B3-C014523B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D79F-4E11-4362-897D-804EF5C2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2E44-4CDE-445F-BE88-A04D36BDC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b 22.41 potrka na vrata 72-letni pacient prišepa v ambulanto in dvigne levo hlačnico rekoč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evo koleno mi je včeraj ponoči začelo otekati, vedno bolj me boli, sedaj je že nevzdržno. Prosim, storite kaj, Lekadol in Ketonal mi nič več ne pomagata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j je nujen naslednji korak (23h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akoj začeti zdravljenje z antibiotik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Lab. preiskave + punkcija sredi no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Čimprejšnje razgibavanje kolena, lab. preiskave in punkcija jut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Rtg kol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do bo opravil punkcijo kole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sti, ki je usposoblj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ma aseptične pogoje za izvedbo punk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o poslal vzorec na mikrobiološki preg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o v primeru gnojnega punktata znal ukrepati napre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NE ANTIBIOTIKA, DOKLER NI KUŽN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aboratorijske preiskave urgent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0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7"/>
          <p:cNvGrpSpPr/>
          <p:nvPr/>
        </p:nvGrpSpPr>
        <p:grpSpPr>
          <a:xfrm>
            <a:off x="990720" y="1494000"/>
            <a:ext cx="7315200" cy="4678200"/>
            <a:chOff x="990720" y="1494000"/>
            <a:chExt cx="7315200" cy="4678200"/>
          </a:xfrm>
        </p:grpSpPr>
        <p:pic>
          <p:nvPicPr>
            <p:cNvPr id="69" name="Picture 5" descr="M7250378-Fluid_aspiration_for_arthritis_treatment-SPL"/>
            <p:cNvPicPr/>
            <p:nvPr/>
          </p:nvPicPr>
          <p:blipFill>
            <a:blip r:embed="rId1"/>
            <a:stretch/>
          </p:blipFill>
          <p:spPr>
            <a:xfrm>
              <a:off x="1514520" y="1494000"/>
              <a:ext cx="6410160" cy="42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Rectangle 6"/>
            <p:cNvSpPr/>
            <p:nvPr/>
          </p:nvSpPr>
          <p:spPr>
            <a:xfrm>
              <a:off x="990720" y="5257800"/>
              <a:ext cx="73152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 komu bi napotili takšnega pacien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vmatolo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fektolo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ternistična prva pomo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rtop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OZ V BOLNIŠ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ambulance600"/>
          <p:cNvPicPr/>
          <p:nvPr/>
        </p:nvPicPr>
        <p:blipFill>
          <a:blip r:embed="rId1"/>
          <a:stretch/>
        </p:blipFill>
        <p:spPr>
          <a:xfrm>
            <a:off x="1143000" y="1219320"/>
            <a:ext cx="701028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ab. preiskav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RP 150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eukociti 11,5 s pomikom v levo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lukoza 13,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unkcija: 50 ml, moten, gost, rumenorja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lukometer punktata: glukoza 2’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Kaj je treba storiti s punktato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oslati na mikrobiološko kult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oslati na razmaz po Gramu, mikrobiol. kulturo in mikroskopski pregled kristal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Makroskopsko oceniti prisotnost bakter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Zavreči v zabojnik za kužno vseb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mski razmaz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v 2 ur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robiološka kultura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v 1-2 dne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roskopski pregled kristalov:  1 ted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a je sedaj 01:00 zjutra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j ob 01:00 potrebuje paci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(Artroskopsko) izpiranje kolena in i.v. a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.v. antibiotik, izpiranje če ni izboljš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eroralni antibiotik in razgiba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mobilizacija, atb po izvidu mikrob k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knee-deep"/>
          <p:cNvPicPr/>
          <p:nvPr/>
        </p:nvPicPr>
        <p:blipFill>
          <a:blip r:embed="rId1"/>
          <a:stretch/>
        </p:blipFill>
        <p:spPr>
          <a:xfrm>
            <a:off x="220968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zpiranje kolena, po možnosti artroskopsk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ventuelne hemok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.v. atb, analgetik, imobilizacija, hlaje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o mikrob. izvidu prilagoditev atb terapije (negativen izvid ne izključuje septičnega artritisa!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onovitev izpiranja, če ponovno oteč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o 2-3 neuspešnih izpiranjih artrotomi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0"/>
          <p:cNvPicPr/>
          <p:nvPr/>
        </p:nvPicPr>
        <p:blipFill>
          <a:blip r:embed="rId1"/>
          <a:stretch/>
        </p:blipFill>
        <p:spPr>
          <a:xfrm>
            <a:off x="2209680" y="160020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lgoročne posledice po uspešno pozdravljenem septičnem artritis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gantocelularni tumor sinovialne ovoj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rtroza skle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tekanje malih sklepov r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uptura meniskus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soda pacientov s septičnim artritisom kolena pred dobo antibiotikov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 Artroza skle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 Kostna ankiloza sklepa (fibrozna pri TB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 Sepsa, lahko tudi sm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ko ločimo septični artritis od akutne put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išan CRP pri septičnem artriti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išan urat pri akutni put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 makroskopskem izgledu punkt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zitivna mikrobiologija in odsotnost kristalov v punkta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kšno je zdravljenje akutnega napada put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unkcija, razgibavanje, gretje, alopuri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unkcija, imobilizacija, hlajenje, N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.v. atb, izpiranje kolena, hlaj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azbijanje kristalov z UZ valo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PTIČNI ARTR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AKE-HOME-MESS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(= </a:t>
            </a:r>
            <a:r>
              <a:rPr b="0" i="1" lang="sl-SI" sz="2800" spc="-1" strike="noStrike">
                <a:solidFill>
                  <a:srgbClr val="000000"/>
                </a:solidFill>
                <a:latin typeface="Arial"/>
              </a:rPr>
              <a:t>če ste prespali seminar, vsaj to poslušajt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zliv v sklepu + vročina ali mrzlica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um na septični artr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ptični artritis od putičnega lahko ločimo le z mikrobiološkimi-mikroskopskimi preiskava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45720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-HOME-MESS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gentno stanje, potencialno resne posled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z anamneze/pregleda ne morete pravilno oceniti urgentnosti in bolnika pravilno napot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gled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nkcija/lab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piranj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v. antibiot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pake: odklonitev pacienta, zakasnitev, p.o. antibiotik, antibiotik pred punkcijo, brez izpir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PTIČNI ARTR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240" y="4724280"/>
            <a:ext cx="88390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vala, ker ste mi pozdravili koleno. Že jutri bom glasoval za vas v Janini akciji “Zdravnik leta”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4818823-happy-elderly-man-in-a-garden"/>
          <p:cNvPicPr/>
          <p:nvPr/>
        </p:nvPicPr>
        <p:blipFill>
          <a:blip r:embed="rId1"/>
          <a:stretch/>
        </p:blipFill>
        <p:spPr>
          <a:xfrm>
            <a:off x="1447920" y="0"/>
            <a:ext cx="62388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j je pomembno vprašati v anamnez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iko časa oteklin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vič v življenju? Drugi sklep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očina? Mrzl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ožilni dejavniki (poškodba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ntane bolečine, nočne boleč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e bolezni, zdravila, alerg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cient nam odgovor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oleno začelo otekati ponoči, se slabš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teklina kolena prvič, drugi sklepi b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mel vročino do 3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, občasno mrzl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 spomni se poškod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olečine v mirovanju, tudi ponoč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dno jemlje insulin, alergij ne nava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j je naš naslednji kora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nkcija kol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inični pregled kol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damo napotnico za laboratorijske preiskave vnetnih parametrov (jutr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ienta takoj napotimo v bolniš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linični pregled kolena naj obseg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spekcija (meritve, primerjava z zdrav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lpacija (oteklina, izliv ali zadebelite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Znaki vnetja (rubor, tumor, dolor, calor, f.l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bseg gibljivosti (iztegnjeno = 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fleksi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vrološki status spodnje ekstremit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oleče to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3014"/>
          <p:cNvPicPr/>
          <p:nvPr/>
        </p:nvPicPr>
        <p:blipFill>
          <a:blip r:embed="rId1"/>
          <a:stretch/>
        </p:blipFill>
        <p:spPr>
          <a:xfrm>
            <a:off x="17146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i pregledu ugotov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evo koleno močno otek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ozitiven balottement (obsežen izl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rez rdečine, toplejše, bole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bljivost 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- 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fleksije (kontraktu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vrološki status b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fuzna bolečnost, brez lokaliziranih toč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rvni sladkor (glukometer) 12,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kšna je naša delovna diagnoz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ični artritis kol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utni napad put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tirjena sladkorna bole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labšanje artroze kol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</cp:lastModifiedBy>
  <dcterms:modified xsi:type="dcterms:W3CDTF">2012-10-10T05:08:42Z</dcterms:modified>
  <cp:revision>1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